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480-70F4-4F8D-87D6-0F6A3214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4AC-F10E-45F9-A478-0A2FE998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C2A-8B5A-477A-899F-0A94295F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A42-4FA3-49DA-B9D3-5E48FA3E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88A-ED55-4E15-B175-49B88592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13F-A736-4EA8-9360-B6469DCE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3F1-DEB3-4C93-8B98-69BD1381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E1E-83AB-4C84-97F4-CC22A9F2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037-CFD7-4CD4-B1FA-B79F526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8F1-4409-419E-AA81-569178F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028-BAA5-48FD-8EAD-0F94F86E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152-4A1B-435C-BA48-F7F0D062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D9D-370D-4E8F-A316-A379DEFD6F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lukoza jako przykład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ukru prost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Obraz 4" descr="delecta-glukoza-100g-Full.jpg"/>
          <p:cNvPicPr/>
          <p:nvPr/>
        </p:nvPicPr>
        <p:blipFill>
          <a:blip r:embed="rId1"/>
          <a:stretch/>
        </p:blipFill>
        <p:spPr>
          <a:xfrm>
            <a:off x="2556000" y="2276640"/>
            <a:ext cx="4194000" cy="374472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4"/>
          <p:cNvSpPr/>
          <p:nvPr/>
        </p:nvSpPr>
        <p:spPr>
          <a:xfrm>
            <a:off x="900000" y="609300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pracowała: mgr Agnieszka Szaf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784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słodzenia potraw dla niemowląt i osób na    dieci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łukania włosów – uelastycznia je i zapobiega rozdwajani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barwienia skór i bielenia bawełn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witaminy C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o środek wzmacniający serce i w schorzeniach wątrob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konserwowania krw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alkoholu etylow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m.in. lodów, pieczywa, przetworów owocowych i sztucznego miod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jogurtów, kefirów i śmietan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luster i bombek choinkowy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sorbitolu, środka słodząc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diabetyk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kwasu cytrynoweg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nadawania połysku tkaninom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5400" spc="-1" strike="noStrike">
                <a:solidFill>
                  <a:srgbClr val="000000"/>
                </a:solidFill>
                <a:latin typeface="Calibri"/>
              </a:rPr>
              <a:t>GLUKOZA     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3" descr="glukoza1.jpg"/>
          <p:cNvPicPr/>
          <p:nvPr/>
        </p:nvPicPr>
        <p:blipFill>
          <a:blip r:embed="rId1"/>
          <a:stretch/>
        </p:blipFill>
        <p:spPr>
          <a:xfrm>
            <a:off x="684360" y="1844640"/>
            <a:ext cx="314460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Obraz 4" descr="d_glukoza.gif"/>
          <p:cNvPicPr/>
          <p:nvPr/>
        </p:nvPicPr>
        <p:blipFill>
          <a:blip r:embed="rId2"/>
          <a:stretch/>
        </p:blipFill>
        <p:spPr>
          <a:xfrm>
            <a:off x="4716360" y="2852640"/>
            <a:ext cx="3224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jest związkiem chemicznym bardzo rozpowszechnionym w przyrodzie. Dużą ilość tej substancji zawiera sok winogron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Symbol zastępczy zawartości 3" descr="czerwone_winogrona.jpg"/>
          <p:cNvPicPr/>
          <p:nvPr/>
        </p:nvPicPr>
        <p:blipFill>
          <a:blip r:embed="rId1"/>
          <a:stretch/>
        </p:blipFill>
        <p:spPr>
          <a:xfrm>
            <a:off x="826920" y="2565360"/>
            <a:ext cx="2592720" cy="388476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zielone_winogrona.jpg"/>
          <p:cNvPicPr/>
          <p:nvPr/>
        </p:nvPicPr>
        <p:blipFill>
          <a:blip r:embed="rId2"/>
          <a:stretch/>
        </p:blipFill>
        <p:spPr>
          <a:xfrm>
            <a:off x="3924360" y="2637000"/>
            <a:ext cx="2438280" cy="367164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m935_winogrono.jpg"/>
          <p:cNvPicPr/>
          <p:nvPr/>
        </p:nvPicPr>
        <p:blipFill>
          <a:blip r:embed="rId3"/>
          <a:stretch/>
        </p:blipFill>
        <p:spPr>
          <a:xfrm>
            <a:off x="6012000" y="260280"/>
            <a:ext cx="284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lukoza powstaje w procesie fotosyntez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oślinach zielonych, którego przebieg możn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posób uproszczony przedstawić za pomocą równania reakcji chemiczn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328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6C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lukoza to podstawowe źródło energii dla wszystkich organizmów. Jest rozprowadzana przez krew do wszystkich komórek , gdzie ulega wieloetapowym przemianom. W wyniku utleniania glukozy, następuje wydzielenie dużej ilości energii.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zne utlenianie glukozy ma postać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414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→ 6C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 + energ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00"/>
                </a:solidFill>
                <a:latin typeface="Calibri"/>
              </a:rPr>
              <a:t>Właściwości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fizy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bstancja sta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tal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bar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rze rozpuszcza się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wodz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chemi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nosachary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wo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łodki s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rommer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świeżo otrzymanego wodorotlenku miedzi (II) dodajemy roztwór glukoz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ogrzewamy w łaźni wod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az 6" descr="GCH_3C26_03Nd.jpg"/>
          <p:cNvPicPr/>
          <p:nvPr/>
        </p:nvPicPr>
        <p:blipFill>
          <a:blip r:embed="rId1"/>
          <a:stretch/>
        </p:blipFill>
        <p:spPr>
          <a:xfrm>
            <a:off x="5003640" y="3068640"/>
            <a:ext cx="3822840" cy="312732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8"/>
          <p:cNvSpPr/>
          <p:nvPr/>
        </p:nvSpPr>
        <p:spPr>
          <a:xfrm>
            <a:off x="324000" y="3284640"/>
            <a:ext cx="4679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 chwili ogrzewania niebieski osad wodorotlenku miedzi (II) zmienia barwę na ceglastoczerwoną – powstaje tlenek miedzi (I)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ole tekstowe 4"/>
          <p:cNvSpPr/>
          <p:nvPr/>
        </p:nvSpPr>
        <p:spPr>
          <a:xfrm>
            <a:off x="611280" y="206064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+ 2Cu(OH)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→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+ kwas organiczny + 2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ollens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azotanu (V) srebra (I) dodajemy kilka kropli stężonego roztworu wodorotlenku sodu, a następnie roztwór amoniaku, aż do rozpuszczenia powstałego osadu. Na koniec dodajemy roztwór glukozy i wstawiamy do łaźni wodnej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716280"/>
            <a:ext cx="403848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czas ogrzewania na ściankach naczynia pojawia się srebro, czyli tzw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ustro srebr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Symbol zastępczy zawartości 4" descr="P2260308.JPG"/>
          <p:cNvPicPr/>
          <p:nvPr/>
        </p:nvPicPr>
        <p:blipFill>
          <a:blip r:embed="rId1"/>
          <a:stretch/>
        </p:blipFill>
        <p:spPr>
          <a:xfrm>
            <a:off x="4716360" y="3500280"/>
            <a:ext cx="4127760" cy="30974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4"/>
          <p:cNvSpPr/>
          <p:nvPr/>
        </p:nvSpPr>
        <p:spPr>
          <a:xfrm>
            <a:off x="539640" y="2565360"/>
            <a:ext cx="820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→ 2 Ag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ozytywny wynik prób Trommera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i Tollensa dowodzi, że 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glukoza ma właściwości redukujące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0:37:28Z</dcterms:created>
  <dc:creator>Aga</dc:creator>
  <dc:description/>
  <dc:language>en-US</dc:language>
  <cp:lastModifiedBy>Aga</cp:lastModifiedBy>
  <dcterms:modified xsi:type="dcterms:W3CDTF">2014-08-11T20:13:44Z</dcterms:modified>
  <cp:revision>20</cp:revision>
  <dc:subject/>
  <dc:title>Glukoza jako przykład cukru prostego</dc:title>
</cp:coreProperties>
</file>